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DE4-A46B-4499-BE53-A51FD46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158-FC97-455A-B9AE-EE324ABF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FCC-EA7C-4CDC-9945-F2BE24DA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6D6-7ED2-43C9-9EF6-FEB7369B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AE2-102A-4794-9C4E-5101047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D6A-3269-44C9-9B66-C554EE3E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E4F-81C8-420E-9E32-1AB18CB6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97E-4F6B-42BE-9E4D-F93D6109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549-01A3-4065-8A51-759263C5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D97-415A-44AB-AD9D-D0A48FA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374-115D-4D7D-BB36-E3684E7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2A1-C585-45BD-8F5F-89E4DC2C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94C0-579A-43D9-930A-4AC537C8D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2 Znie celým s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ý t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celým svetom jasný tó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trán čuť hlas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čoskoro už príde o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a Darca spás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Božia všetkých var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pánku budí spiaci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 žatvy prišiel, zvest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spasenia je vzác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radostné to posol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ľuďom nádej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končí sa už otroc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domov očak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íde, zmizne smrti tieň, čas sĺz sa nena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nastane ten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pasiteľ sa vrá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adventu tón radost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 liek na sveta rany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án splní sľub svoj slávnostný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otvorme mu brá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ydobyl nám víťaz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Bohu česť a sláv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, tvoje kráľov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ľud ťa očakáv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9:58:54Z</dcterms:modified>
  <cp:revision>21</cp:revision>
  <dc:subject/>
  <dc:title>Je veľký náš Pán, on slávy je Kráľ Nech do všetkých strán  spev vrúcnych znie chvál.</dc:title>
</cp:coreProperties>
</file>